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161743-021A-4981-BBC9-3505162FA3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7F98E3-C970-4EA0-ABF9-755C45538C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9C0DDD-B86B-4E36-97C0-EC74D5475C2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C19640-9DD4-42F4-9013-7DA9369F062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849B73-65E6-476D-9C07-BE437133B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4506DA-F332-4E32-8E30-4D70D4CBE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4C6FBC-1FE5-4A82-8663-CFA3892DA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B4E3E3-A03A-4DF6-8896-234661E1D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60CC16-DD8F-46D3-8950-8021C008A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12BB13-4A83-416B-8FF4-D52BB23CE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CEA80A-6321-412C-89F6-D5ACD4F3A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A875F5-AC03-4923-898C-8E05B6BD739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980DD5-69DD-415F-9C07-59EEDB4C5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9E5BCC-3063-4C77-85C6-DB1362BFB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D49238-BB1A-4E70-959B-C24152E0E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C316C0-E42E-4780-ABAA-455A1BDDC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DFE2FF-AA3B-458E-B80D-8B72D8AE6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9C0CDD-2A1B-4635-82BC-5D89C0D776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209726-3676-4194-9EA1-FDC5F6C1295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8C19DE-0DCB-435F-AC93-F19A2E746D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C2AA5D-E548-4374-90BF-DC006BCEF6C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1670ED-61A3-4E28-9C7D-21B95CA8EA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D86072-09E7-4626-8C89-8137E99B644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A9353D-8469-44FE-8145-6043255E55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51D26-3896-4151-A781-A265C0B8022D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40F86-F0DD-44E0-B42E-7731E79D76A3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D87936-95EB-4ED3-BD17-2CE2F4AB209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73C406-A183-48D6-8D6C-B86E50E79D7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795ADA-B79B-456D-9031-0ED93D044B6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644E3D-1248-4735-B5C8-E6BF414BEB3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9D5A7E-4EBC-41D2-8FD4-1217544CB0B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0C1677-C577-49F0-868E-650F0017023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392CFF-FFC2-49B3-B682-4952DF02323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, smooth.spline functions in ‘stats’ packa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pline – smoothing splin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supporting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488081-B430-4AD3-9A57-A1D5C0A3BA8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047300-9F99-44D3-A0FE-7297AAA8C81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64C35D-837C-40E5-838E-CA4A4DECB83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, df=2.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62D10F-1539-4E8F-8839-77F31E5239A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939988-1DF9-45E8-9452-963B9C649B1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19422F-680B-45B4-92D2-6D7AF46F54E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309F44-EA59-421D-BCC3-0907B7E5040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19T15:53:45Z</dcterms:modified>
  <cp:revision>169</cp:revision>
  <dc:subject/>
  <dc:title>minSpline: An R Package For Minimal Knot Splines</dc:title>
</cp:coreProperties>
</file>