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8128-E847-4691-A0A6-AC9091432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83A6-725C-46D4-98C6-D18022E9B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D9AE-7A35-4808-A474-C1CA124CC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B00B-AF52-4E5C-B018-893493481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A382B-6D20-4F2E-9FDA-67F520BBB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6DEB5-4970-4CC6-8F32-F4F663D06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C0140-3063-4CF6-9114-160F309E4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3B3C4-15B6-4C34-9E4A-B26A81633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97D17-328E-4DA5-9A73-ABA5B7801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4DF60-970D-4339-AFEB-A82A0D2FC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EFC0C-D6C1-461A-884B-27FD63814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294E-3E20-45DF-A570-D1E3B5BD7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4A6A9-F116-4085-BE92-811BB8F16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9D101-047F-4E4A-997D-5BB58B6EB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52DFE-9211-40BE-813F-D78D526F3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2CB58-DC6B-4D74-9AD5-A33188CD1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EF32F-71A3-4088-A0A7-FB9BFDBDC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5A4F-5FEF-4813-A7A4-06BA96F4A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1576-66D6-4D2D-9C22-D6CD6A818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1480-3041-4F02-AEE0-01E4812E2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8111-7EBC-4544-93C2-3809FD878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1817-6543-490D-8F59-B6261C764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FD0E-9118-4762-BA1A-8443F2C0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881B-5B49-4B4E-B22B-0BAC8F7C9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60B18-C400-455E-9511-4DCDBDD955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ECF34-ADD3-40D6-B152-6C01C699D1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FBDEF-4B0A-4F72-BCEE-9D08CBE23B6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FDE5-5716-45D8-85DB-0023A166DAD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60D6-F3E7-4FDB-92AD-8CEFC464EF3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CF8E-E931-41FA-9640-D5B0BE1F6AD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F8BC-D3D3-41E8-AB00-8F0583DAB1F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6286-8A40-4347-85D4-4B58A9C7468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B31B-92EF-4DC9-9A3C-C730C8E5AE9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CF2E-DB4E-4B61-8B5D-7CE4C919BAA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68A6-1CE2-4B30-916D-9C44D0E6E90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4B9D-0899-42D5-88B9-88BBD6B54D0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B5E9-2710-4E17-8305-894A0B6D544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9FEC-FDEC-49BB-92F0-A51D08CFC63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5:52:21Z</dcterms:modified>
  <cp:revision>2</cp:revision>
  <dc:subject/>
  <dc:title>The R genetics package: tools for using genetic data in statistical  models</dc:title>
</cp:coreProperties>
</file>